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852720" y="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918720" y="742680"/>
            <a:ext cx="495324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1120" y="4714920"/>
            <a:ext cx="5432400" cy="4462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852720" y="942624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B575D-F546-4127-A63B-98F4C86704D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1"/>
          <p:cNvSpPr/>
          <p:nvPr/>
        </p:nvSpPr>
        <p:spPr>
          <a:xfrm>
            <a:off x="3852720" y="942660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986AF-609C-4472-A708-A50BC27AFA3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3852720" y="942660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DF5D0-A484-4DC6-A1EA-E1EC540C7F0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3852720" y="942660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5A0C3-CF3B-4061-B17C-F00A64FA19E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852720" y="942660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796F7-214E-43B9-9181-81A4A4B179C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1120" y="4714920"/>
            <a:ext cx="54338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1"/>
          <p:cNvSpPr/>
          <p:nvPr/>
        </p:nvSpPr>
        <p:spPr>
          <a:xfrm>
            <a:off x="3852720" y="942660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E73EE-C8D2-42D9-B66D-D23729BEA44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1120" y="4714920"/>
            <a:ext cx="54338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852720" y="942660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9426E-FC33-4A16-8D22-568AA095489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1"/>
          <p:cNvSpPr/>
          <p:nvPr/>
        </p:nvSpPr>
        <p:spPr>
          <a:xfrm>
            <a:off x="3852720" y="942660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3F459-31DE-4926-9F72-96478FE54FD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852720" y="942660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13E64-5D0F-4369-A356-36BE78DE466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3852720" y="942660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97681-CC81-4C00-8CAA-4144E250674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1120" y="4714920"/>
            <a:ext cx="54338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852720" y="942660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1194F-AD08-4B82-B147-4C7E8985624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3852720" y="942660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2440"/>
                <a:tab algn="l" pos="4040280"/>
                <a:tab algn="l" pos="4489560"/>
                <a:tab algn="l" pos="4938840"/>
                <a:tab algn="l" pos="5388120"/>
                <a:tab algn="l" pos="583884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861D5-34E5-4AD8-AEE8-3AFA21FFD1E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385128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230F3-C4A6-40FA-988A-67CDEC3F636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0760" y="4712760"/>
            <a:ext cx="543708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851280" y="9429840"/>
            <a:ext cx="2944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8889A-7736-481D-9A9A-966942FE63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1"/>
          <p:cNvSpPr/>
          <p:nvPr/>
        </p:nvSpPr>
        <p:spPr>
          <a:xfrm>
            <a:off x="3852720" y="942660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62015-5697-4EB3-B090-5C012232681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3852720" y="942660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0CAC8-67D3-471F-9587-08674E0640F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3852720" y="942660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C0E57-32EC-469B-A8A7-9B1C885009E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852720" y="942660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EDF9B-9279-4A33-B5BB-40A83827E37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1"/>
          <p:cNvSpPr/>
          <p:nvPr/>
        </p:nvSpPr>
        <p:spPr>
          <a:xfrm>
            <a:off x="3852720" y="942660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D03D7-79A3-4996-926C-8BC52F2B83E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3852720" y="942660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370B8-6631-4A3D-8F52-CB0A7BB359E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852720" y="942660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F239A-962E-45AD-A624-1709BDA7565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852720" y="942660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837E8-F604-4BB7-A875-236FA2AAD0C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1"/>
          <p:cNvSpPr/>
          <p:nvPr/>
        </p:nvSpPr>
        <p:spPr>
          <a:xfrm>
            <a:off x="3852720" y="942660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40AB1-F831-472D-8D31-A9860C08C31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3852720" y="942660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45519-136B-464B-9CF9-7A8CAB34244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3852720" y="942660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0D473-4415-48FC-8CA0-1ABB02820A0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852720" y="942660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503C9-C63C-4010-A9B3-80495C29A3D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1120" y="4714920"/>
            <a:ext cx="54338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1"/>
          <p:cNvSpPr/>
          <p:nvPr/>
        </p:nvSpPr>
        <p:spPr>
          <a:xfrm>
            <a:off x="3852720" y="942660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5673F-92F2-4B85-920C-A879A00A7FD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3852720" y="942660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2A3A5-AD64-433A-83B5-9DCDD78B732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852720" y="942660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892AC-28B5-41FD-8AAD-B0FA669A40B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3852720" y="9426600"/>
            <a:ext cx="2943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70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128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089E9-6F70-4DC8-9648-36A31D9BF75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1120" y="4714920"/>
            <a:ext cx="54338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D191-B57D-445A-A1D8-1676059ED9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ECF4D-EA38-4529-8A55-D77ED065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A530-CCA5-4878-BFDF-F00FF81A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E3E83-B2D5-40EE-9D32-F11576FFD5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9B0C-87A0-43B0-AB5B-5AC009B2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D734C-7D85-4841-92E7-93EE4E91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FE471-35BD-4554-A447-5C2ADEC8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7AFE2-DF37-4308-B2A7-47242437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C86A5-45D2-4E40-94D6-3EF7FEE9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DB5FE-2785-426D-BD48-0C5C0E7C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B7611-05E9-4648-B310-9FD142C6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654D2-74A0-4EF7-947B-8EFF12F3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58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2.03.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258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124269-C52D-4BAB-8EBD-3AE7EF5E264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a9c1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3071880" cy="6858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538200" y="428760"/>
            <a:ext cx="8248680" cy="585612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ВЫПОЛНЕНИИ ИНВЕСТИЦИОННЫХ ПРОГРАММ РЕСУРСОСНАБЖАЮЩИМИ ОРГАНИЗАЦИЯМИ ЗА 2018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-214200"/>
            <a:ext cx="2792520" cy="29318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436760" y="522360"/>
            <a:ext cx="770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17375d"/>
                </a:solidFill>
                <a:latin typeface="Times New Roman"/>
                <a:ea typeface="Times New Roman"/>
              </a:rPr>
              <a:t>Департамент государственного регулирования цен и тариф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17375d"/>
                </a:solidFill>
                <a:latin typeface="Times New Roman"/>
                <a:ea typeface="Times New Roman"/>
              </a:rPr>
              <a:t>Костромской обла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429000" y="5059440"/>
            <a:ext cx="5029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кладывает: Солдатова И.Ю., директор департамента государственного регулирования цен и тарифов Костромской обла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2862360" y="0"/>
            <a:ext cx="6281640" cy="6858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3071880" cy="6858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92160" y="66600"/>
            <a:ext cx="772920" cy="7016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4"/>
          <p:cNvSpPr/>
          <p:nvPr/>
        </p:nvSpPr>
        <p:spPr>
          <a:xfrm>
            <a:off x="569880" y="357120"/>
            <a:ext cx="8288280" cy="615960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25560">
            <a:solidFill>
              <a:srgbClr val="d2d2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858000" y="6492960"/>
            <a:ext cx="228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000080" y="500040"/>
            <a:ext cx="75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ИНВЕСТИЦИОННАЯ ПРОГРАМ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8"/>
          <p:cNvGrpSpPr/>
          <p:nvPr/>
        </p:nvGrpSpPr>
        <p:grpSpPr>
          <a:xfrm>
            <a:off x="1571760" y="928800"/>
            <a:ext cx="7265880" cy="2928600"/>
            <a:chOff x="1571760" y="928800"/>
            <a:chExt cx="7265880" cy="2928600"/>
          </a:xfrm>
        </p:grpSpPr>
        <p:pic>
          <p:nvPicPr>
            <p:cNvPr id="67" name="Picture 9" descr=""/>
            <p:cNvPicPr/>
            <p:nvPr/>
          </p:nvPicPr>
          <p:blipFill>
            <a:blip r:embed="rId2"/>
            <a:stretch/>
          </p:blipFill>
          <p:spPr>
            <a:xfrm>
              <a:off x="1571760" y="1215360"/>
              <a:ext cx="7265880" cy="264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/>
            <p:cNvSpPr/>
            <p:nvPr/>
          </p:nvSpPr>
          <p:spPr>
            <a:xfrm>
              <a:off x="1643040" y="928800"/>
              <a:ext cx="7072200" cy="27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Инвестиционная программа </a:t>
              </a: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–</a:t>
              </a:r>
              <a:br>
                <a:rPr sz="2000"/>
              </a:br>
              <a:r>
                <a:rPr b="1" lang="ru-RU" sz="1800" spc="-1" strike="noStrike">
                  <a:solidFill>
                    <a:srgbClr val="22228b"/>
                  </a:solidFill>
                  <a:latin typeface="Times New Roman"/>
                  <a:ea typeface="Times New Roman"/>
                </a:rPr>
                <a:t>программа мероприятий по строительству, реконструкции и (или) модернизации объектов централизованных коммунальных систем в целях развития, повышения надежности и энергетической эффективности инженерных систем, подключения (технологического присоединения) новых потребителей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14"/>
          <p:cNvGrpSpPr/>
          <p:nvPr/>
        </p:nvGrpSpPr>
        <p:grpSpPr>
          <a:xfrm>
            <a:off x="1571760" y="3857760"/>
            <a:ext cx="7286040" cy="2279520"/>
            <a:chOff x="1571760" y="3857760"/>
            <a:chExt cx="7286040" cy="2279520"/>
          </a:xfrm>
        </p:grpSpPr>
        <p:pic>
          <p:nvPicPr>
            <p:cNvPr id="70" name="Picture 15" descr=""/>
            <p:cNvPicPr/>
            <p:nvPr/>
          </p:nvPicPr>
          <p:blipFill>
            <a:blip r:embed="rId3"/>
            <a:stretch/>
          </p:blipFill>
          <p:spPr>
            <a:xfrm>
              <a:off x="1571760" y="3857760"/>
              <a:ext cx="728604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6"/>
            <p:cNvSpPr/>
            <p:nvPr/>
          </p:nvSpPr>
          <p:spPr>
            <a:xfrm>
              <a:off x="1649520" y="4000320"/>
              <a:ext cx="6854400" cy="17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      </a:t>
              </a: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В 2018 году на территории региона всего реализовано 14 инвестиционных программ в том числ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22228b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22228b"/>
                  </a:solidFill>
                  <a:latin typeface="Times New Roman"/>
                  <a:ea typeface="Times New Roman"/>
                </a:rPr>
                <a:t>в сфере электроэнергетики - 3 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22228b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22228b"/>
                  </a:solidFill>
                  <a:latin typeface="Times New Roman"/>
                  <a:ea typeface="Times New Roman"/>
                </a:rPr>
                <a:t>в сфере  тепло-, водоснабжения, водоотведения -11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AutoShape 18"/>
          <p:cNvSpPr/>
          <p:nvPr/>
        </p:nvSpPr>
        <p:spPr>
          <a:xfrm>
            <a:off x="642960" y="3000240"/>
            <a:ext cx="1049400" cy="1635120"/>
          </a:xfrm>
          <a:custGeom>
            <a:avLst/>
            <a:gdLst>
              <a:gd name="textAreaLeft" fmla="*/ 140400 w 1049400"/>
              <a:gd name="textAreaRight" fmla="*/ 909000 w 1049400"/>
              <a:gd name="textAreaTop" fmla="*/ 310320 h 1635120"/>
              <a:gd name="textAreaBottom" fmla="*/ 1193760 h 163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01" stAng="-5400000" swAng="-5400000"/>
                <a:lnTo>
                  <a:pt x="0" y="11666"/>
                </a:lnTo>
                <a:arcTo wR="21600" hR="8201" stAng="10800000" swAng="-3346939"/>
                <a:lnTo>
                  <a:pt x="16200" y="21340"/>
                </a:lnTo>
                <a:lnTo>
                  <a:pt x="21600" y="18135"/>
                </a:lnTo>
                <a:lnTo>
                  <a:pt x="16200" y="14409"/>
                </a:lnTo>
                <a:lnTo>
                  <a:pt x="16200" y="16142"/>
                </a:lnTo>
                <a:arcTo wR="21600" hR="8201" stAng="7453061" swAng="3065467"/>
                <a:lnTo>
                  <a:pt x="487" y="9934"/>
                </a:lnTo>
                <a:arcTo wR="21600" hR="8201" stAng="-10518528" swAng="5118528"/>
                <a:close/>
              </a:path>
              <a:path fill="darkenLess" w="21600" h="21600">
                <a:moveTo>
                  <a:pt x="21600" y="0"/>
                </a:moveTo>
                <a:arcTo wR="21600" hR="8201" stAng="-5400000" swAng="-5400000"/>
                <a:lnTo>
                  <a:pt x="0" y="8201"/>
                </a:lnTo>
                <a:arcTo wR="21600" hR="8201" stAng="10800000" swAng="-281472"/>
                <a:lnTo>
                  <a:pt x="487" y="9934"/>
                </a:lnTo>
                <a:arcTo wR="21600" hR="8201" stAng="-10518528" swAng="5118528"/>
                <a:close/>
              </a:path>
            </a:pathLst>
          </a:custGeom>
          <a:solidFill>
            <a:srgbClr val="a9c1df"/>
          </a:solidFill>
          <a:ln w="25560">
            <a:solidFill>
              <a:srgbClr val="d2d2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8880480" y="6581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0"/>
            <a:ext cx="3071880" cy="6858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774720" cy="70164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4"/>
          <p:cNvSpPr/>
          <p:nvPr/>
        </p:nvSpPr>
        <p:spPr>
          <a:xfrm>
            <a:off x="423720" y="500040"/>
            <a:ext cx="8388360" cy="594828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7504200" y="6259680"/>
            <a:ext cx="14288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779400" y="576360"/>
            <a:ext cx="76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ЭЛЕКТРОЭНЕРГЕ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7307280" y="936720"/>
            <a:ext cx="12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лн. ру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8880480" y="6581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39720" y="4032360"/>
            <a:ext cx="798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целом инвестиционные программы территориальными сетевыми организациями выполнены и по финансированию и по запланированным мероприятия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2"/>
          <a:stretch/>
        </p:blipFill>
        <p:spPr>
          <a:xfrm>
            <a:off x="6948360" y="4500720"/>
            <a:ext cx="1962360" cy="196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642960" y="1285920"/>
          <a:ext cx="7904160" cy="2895480"/>
        </p:xfrm>
        <a:graphic>
          <a:graphicData uri="http://schemas.openxmlformats.org/drawingml/2006/table">
            <a:tbl>
              <a:tblPr/>
              <a:tblGrid>
                <a:gridCol w="3332160"/>
                <a:gridCol w="1119240"/>
                <a:gridCol w="1120680"/>
                <a:gridCol w="1165320"/>
                <a:gridCol w="1166760"/>
              </a:tblGrid>
              <a:tr h="248400">
                <a:tc rowSpan="2">
                  <a:txBody>
                    <a:bodyPr lIns="90000" rIns="90000" tIns="684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редприят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>
                      <a:noFill/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120" rIns="6120" tIns="50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2018 год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>
                      <a:noFill/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684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нение, 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>
                      <a:noFill/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684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 на 2019 год,  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>
                      <a:noFill/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50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План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120" rIns="6120" tIns="50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Times New Roman"/>
                          <a:ea typeface="Arial Unicode MS"/>
                        </a:rPr>
                        <a:t>ПАО «МРСК Центра» на территории Костромской обла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16165d"/>
                          </a:solidFill>
                          <a:latin typeface="Times New Roman"/>
                          <a:ea typeface="Arial Unicode MS"/>
                        </a:rPr>
                        <a:t>908,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16165d"/>
                          </a:solidFill>
                          <a:latin typeface="Times New Roman"/>
                          <a:ea typeface="Arial Unicode MS"/>
                        </a:rPr>
                        <a:t>886,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16165d"/>
                          </a:solidFill>
                          <a:latin typeface="Times New Roman"/>
                          <a:ea typeface="Arial Unicode MS"/>
                        </a:rPr>
                        <a:t>97,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16165d"/>
                          </a:solidFill>
                          <a:latin typeface="Times New Roman"/>
                          <a:ea typeface="Arial Unicode MS"/>
                        </a:rPr>
                        <a:t>755,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3143160"/>
                          <a:tab algn="l" pos="322272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О «Энергосервис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16165d"/>
                          </a:solidFill>
                          <a:latin typeface="Times New Roman"/>
                          <a:ea typeface="Times New Roman"/>
                        </a:rPr>
                        <a:t>19,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16165d"/>
                          </a:solidFill>
                          <a:latin typeface="Times New Roman"/>
                          <a:ea typeface="Times New Roman"/>
                        </a:rPr>
                        <a:t>20,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16165d"/>
                          </a:solidFill>
                          <a:latin typeface="Times New Roman"/>
                          <a:ea typeface="Times New Roman"/>
                        </a:rPr>
                        <a:t>101,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16165d"/>
                          </a:solidFill>
                          <a:latin typeface="Times New Roman"/>
                          <a:ea typeface="Times New Roman"/>
                        </a:rPr>
                        <a:t>20,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О «Оборонэнерго»  на территории Костромской обла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16165d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16165d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16165d"/>
                          </a:solidFill>
                          <a:latin typeface="Times New Roman"/>
                          <a:ea typeface="Times New Roman"/>
                        </a:rPr>
                        <a:t>103,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16165d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ОО «КФК  Энерго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16165d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16165d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16165d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16165d"/>
                          </a:solidFill>
                          <a:latin typeface="Times New Roman"/>
                          <a:ea typeface="Times New Roman"/>
                        </a:rPr>
                        <a:t>63,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16165d"/>
                          </a:solidFill>
                          <a:latin typeface="Times New Roman"/>
                          <a:ea typeface="Times New Roman"/>
                        </a:rPr>
                        <a:t>931,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16165d"/>
                          </a:solidFill>
                          <a:latin typeface="Times New Roman"/>
                          <a:ea typeface="Times New Roman"/>
                        </a:rPr>
                        <a:t>909,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16165d"/>
                          </a:solidFill>
                          <a:latin typeface="Times New Roman"/>
                          <a:ea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16165d"/>
                          </a:solidFill>
                          <a:latin typeface="Times New Roman"/>
                          <a:ea typeface="Times New Roman"/>
                        </a:rPr>
                        <a:t>843,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85" name="Text Box 8"/>
          <p:cNvSpPr/>
          <p:nvPr/>
        </p:nvSpPr>
        <p:spPr>
          <a:xfrm>
            <a:off x="576360" y="4775040"/>
            <a:ext cx="694836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 в 2018 году введено основных фондов: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6,3</a:t>
            </a:r>
            <a:r>
              <a:rPr b="1" lang="ru-RU" sz="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ВА</a:t>
            </a:r>
            <a:r>
              <a:rPr b="1" lang="ru-RU" sz="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щности,</a:t>
            </a: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</a:t>
            </a: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х</a:t>
            </a: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вое</a:t>
            </a: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ительство</a:t>
            </a: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</a:t>
            </a: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4,5</a:t>
            </a:r>
            <a:r>
              <a:rPr b="1" lang="ru-RU" sz="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ВА  МВА,   реконструкция и техперевооружение – 1,8 М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ru-RU" sz="1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75,8 км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тей, из них новое строительство</a:t>
            </a: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312,7 км, реконструкция и техперевооружение – 63,1 к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3071880" cy="6858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92160" y="66600"/>
            <a:ext cx="772920" cy="70164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4"/>
          <p:cNvSpPr/>
          <p:nvPr/>
        </p:nvSpPr>
        <p:spPr>
          <a:xfrm>
            <a:off x="500040" y="714240"/>
            <a:ext cx="8429760" cy="564372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010280" y="6572160"/>
            <a:ext cx="2133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71680" y="1428840"/>
            <a:ext cx="8286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633240" y="285840"/>
            <a:ext cx="8296560" cy="618624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85840" y="28584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ВЕСТИЦИОННЫЕ ПРОГРАММЫ В СФЕРЕРАХ ТЕПЛОСНАБЖЕНИЯ,  ВОДОСНАБЖЕНИЯ И ВОДООТВЕ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71680" y="928800"/>
          <a:ext cx="8358120" cy="5500440"/>
        </p:xfrm>
        <a:graphic>
          <a:graphicData uri="http://schemas.openxmlformats.org/drawingml/2006/table">
            <a:tbl>
              <a:tblPr/>
              <a:tblGrid>
                <a:gridCol w="3706560"/>
                <a:gridCol w="1317600"/>
                <a:gridCol w="1589040"/>
                <a:gridCol w="741600"/>
                <a:gridCol w="1003320"/>
              </a:tblGrid>
              <a:tr h="981000">
                <a:tc>
                  <a:txBody>
                    <a:bodyPr lIns="90000" rIns="90000" tIns="684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ред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>
                      <a:noFill/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684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 на 2018 год,  млн.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>
                      <a:noFill/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120" rIns="6120" tIns="50040" bIns="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Факт  2018 года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млн. руб. (оперативные данные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>
                      <a:noFill/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684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испол-н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>
                      <a:noFill/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684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 на 2019 год,  млн.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704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Arial Unicode MS"/>
                        </a:rPr>
                        <a:t>ПАО «ТГК-2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Arial Unicode MS"/>
                        </a:rPr>
                        <a:t>68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Arial Unicode MS"/>
                        </a:rPr>
                        <a:t>7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Arial Unicode MS"/>
                        </a:rPr>
                        <a:t>11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5108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3143160"/>
                          <a:tab algn="l" pos="322272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П г. Костромы  «Костромагорводоканал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101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8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15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25848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одоснабж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44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39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87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75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одоотвед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ad9ec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56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ad9ec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5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ad9ec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88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ad9ec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75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ad9ec"/>
                    </a:solidFill>
                  </a:tcPr>
                </a:tc>
              </a:tr>
              <a:tr h="2653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О «Тепловодоканал»  г. Бу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5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25848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одоснабж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0e9f4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0e9f4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0e9f4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2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0e9f4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0e9f4"/>
                    </a:solidFill>
                  </a:tcPr>
                </a:tc>
              </a:tr>
              <a:tr h="25884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Теплоснабж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0e9f4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0e9f4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Arial Unicode MS"/>
                        </a:rPr>
                        <a:t>1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0e9f4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25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0e9f4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0e9f4"/>
                    </a:solidFill>
                  </a:tcPr>
                </a:tc>
              </a:tr>
              <a:tr h="32544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Arial Unicode MS"/>
                        </a:rPr>
                        <a:t>МУП г. Костромы «Городские сет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17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Arial Unicode MS"/>
                        </a:rPr>
                        <a:t>28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Arial Unicode MS"/>
                        </a:rPr>
                        <a:t>159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30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25884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Arial Unicode MS"/>
                        </a:rPr>
                        <a:t>ООО «Техносервис»  г.Не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0e9f4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0e9f4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Arial Unicode MS"/>
                        </a:rPr>
                        <a:t>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0e9f4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Arial Unicode MS"/>
                        </a:rPr>
                        <a:t>6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0e9f4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0e9f4"/>
                    </a:solidFill>
                  </a:tcPr>
                </a:tc>
              </a:tr>
              <a:tr h="25704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О «СТТ» г. Костро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16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25884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О «СТТ» г. Судислав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103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5072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О «Коммунальные системы» (Сусанинский  р-н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45108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О «Константа» (п. Судиславль,                               г. п.г.Чухлом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25704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П Горохов С.Ж. (п. Бычих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252360">
                <a:tc>
                  <a:txBody>
                    <a:bodyPr lIns="90000" rIns="90000" tIns="25200" bIns="25200" anchor="ctr">
                      <a:noAutofit/>
                    </a:bodyPr>
                    <a:p>
                      <a:pPr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205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209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101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25200" bIns="25200" anchor="ctr">
                      <a:noAutofit/>
                    </a:bodyPr>
                    <a:p>
                      <a:pPr algn="ctr">
                        <a:lnSpc>
                          <a:spcPts val="14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193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0" y="0"/>
            <a:ext cx="3071880" cy="6858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774720" cy="7016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"/>
          <p:cNvSpPr/>
          <p:nvPr/>
        </p:nvSpPr>
        <p:spPr>
          <a:xfrm>
            <a:off x="365040" y="285840"/>
            <a:ext cx="8350200" cy="614988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32,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60360" y="395280"/>
            <a:ext cx="8358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ДИНАМИКА ВЫПОЛНЕНИЯ ИНВЕСТИЦИОННОЙ ПРОГРАММЫ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ПАО «ТГК-2» ЗА ПЕРИОД 2016-2018 ГОДЫ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 flipV="1" rot="10800000">
            <a:off x="7596360" y="899640"/>
            <a:ext cx="10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лн. ру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881200" y="6581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28760" y="5472000"/>
            <a:ext cx="830880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ое невыполнение – в части платы за подключение</a:t>
            </a:r>
            <a:r>
              <a:rPr b="1" lang="ru-RU" sz="1600" spc="-1" strike="noStrike">
                <a:solidFill>
                  <a:srgbClr val="17375d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утствие заявок застройщиков на подключение к системам теплоснабж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17375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76360" y="2556000"/>
            <a:ext cx="79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намика выполнения инвестиционной программы ПАО «ТГК-2» г. Кострома                                     за 2016-2018 год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1"/>
          <p:cNvSpPr/>
          <p:nvPr/>
        </p:nvSpPr>
        <p:spPr>
          <a:xfrm>
            <a:off x="4429080" y="5796000"/>
            <a:ext cx="158760" cy="214200"/>
          </a:xfrm>
          <a:prstGeom prst="downArrow">
            <a:avLst>
              <a:gd name="adj1" fmla="val 50000"/>
              <a:gd name="adj2" fmla="val 49708"/>
            </a:avLst>
          </a:prstGeom>
          <a:solidFill>
            <a:srgbClr val="dce6f2"/>
          </a:solidFill>
          <a:ln w="648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28760" y="1214280"/>
          <a:ext cx="8188200" cy="1295640"/>
        </p:xfrm>
        <a:graphic>
          <a:graphicData uri="http://schemas.openxmlformats.org/drawingml/2006/table">
            <a:tbl>
              <a:tblPr/>
              <a:tblGrid>
                <a:gridCol w="512640"/>
                <a:gridCol w="1941480"/>
                <a:gridCol w="587520"/>
                <a:gridCol w="585720"/>
                <a:gridCol w="585720"/>
                <a:gridCol w="585720"/>
                <a:gridCol w="587520"/>
                <a:gridCol w="585720"/>
                <a:gridCol w="585720"/>
                <a:gridCol w="585720"/>
                <a:gridCol w="1044720"/>
              </a:tblGrid>
              <a:tr h="2700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рганизаци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 год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0f5fa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того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ие, 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ан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9360">
                      <a:solidFill>
                        <a:srgbClr val="f0f5fa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акт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0f5fa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ак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ан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ак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ан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ак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АО «ТГК-2» г. Костром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9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6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6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76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86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амортизац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9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7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5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7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5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1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75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36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 плата за подключен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pic>
        <p:nvPicPr>
          <p:cNvPr id="105" name="Диаграмма 184" descr=""/>
          <p:cNvPicPr/>
          <p:nvPr/>
        </p:nvPicPr>
        <p:blipFill>
          <a:blip r:embed="rId2"/>
          <a:stretch/>
        </p:blipFill>
        <p:spPr>
          <a:xfrm>
            <a:off x="0" y="0"/>
            <a:ext cx="8742240" cy="55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0" y="0"/>
            <a:ext cx="3071880" cy="6858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774720" cy="7016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3"/>
          <p:cNvSpPr/>
          <p:nvPr/>
        </p:nvSpPr>
        <p:spPr>
          <a:xfrm>
            <a:off x="395280" y="404640"/>
            <a:ext cx="8388360" cy="600084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95280" y="357120"/>
            <a:ext cx="83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ВЫПОЛНЕНИЕ ИНВЕСТИЦИОННОЙ ПРОГРАММ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МУП Г. КОСТРОМЫ «ГОРОДСКИЕ СЕТИ» ЗА ПЕРИОД                            </a:t>
            </a:r>
            <a:r>
              <a:rPr b="1" lang="en-US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2017 - </a:t>
            </a:r>
            <a:r>
              <a:rPr b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2018 Г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 flipV="1" rot="10800000">
            <a:off x="7286400" y="99252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лн. ру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8881200" y="6581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95280" y="1268280"/>
          <a:ext cx="8319960" cy="1758960"/>
        </p:xfrm>
        <a:graphic>
          <a:graphicData uri="http://schemas.openxmlformats.org/drawingml/2006/table">
            <a:tbl>
              <a:tblPr/>
              <a:tblGrid>
                <a:gridCol w="530280"/>
                <a:gridCol w="2003400"/>
                <a:gridCol w="604800"/>
                <a:gridCol w="606600"/>
                <a:gridCol w="604800"/>
                <a:gridCol w="604800"/>
                <a:gridCol w="604800"/>
                <a:gridCol w="604800"/>
                <a:gridCol w="1077840"/>
                <a:gridCol w="1077840"/>
              </a:tblGrid>
              <a:tr h="1828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рганизаци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того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ие, 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 на 2019 год,  млн.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ак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ан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ак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ан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ак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УП г. Костромы «Городские сети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9,</a:t>
                      </a: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7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5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амортизац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7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7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 прибы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 плата за подключен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3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pic>
        <p:nvPicPr>
          <p:cNvPr id="113" name="Диаграмма 16" descr=""/>
          <p:cNvPicPr/>
          <p:nvPr/>
        </p:nvPicPr>
        <p:blipFill>
          <a:blip r:embed="rId2"/>
          <a:stretch/>
        </p:blipFill>
        <p:spPr>
          <a:xfrm>
            <a:off x="0" y="0"/>
            <a:ext cx="8862840" cy="5810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611280" y="3000240"/>
            <a:ext cx="79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намика выполнения инвестиционной программы МУП г. Костромы «Городские сети»                                     за 2017-2018 год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68360" y="5753160"/>
            <a:ext cx="830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ая причина невыполнения -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сутствие заявок застройщиков на подключение к системам теплоснабж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17375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7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0" y="0"/>
            <a:ext cx="3071880" cy="6858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8" descr="Многоцв_полн_монохр.bmp"/>
          <p:cNvPicPr/>
          <p:nvPr/>
        </p:nvPicPr>
        <p:blipFill>
          <a:blip r:embed="rId1"/>
          <a:stretch/>
        </p:blipFill>
        <p:spPr>
          <a:xfrm>
            <a:off x="92160" y="66600"/>
            <a:ext cx="772920" cy="701640"/>
          </a:xfrm>
          <a:prstGeom prst="rect">
            <a:avLst/>
          </a:prstGeom>
          <a:ln w="0">
            <a:noFill/>
          </a:ln>
        </p:spPr>
      </p:pic>
      <p:sp>
        <p:nvSpPr>
          <p:cNvPr id="119" name="Скругленный прямоугольник 9"/>
          <p:cNvSpPr/>
          <p:nvPr/>
        </p:nvSpPr>
        <p:spPr>
          <a:xfrm>
            <a:off x="500040" y="214200"/>
            <a:ext cx="8191440" cy="6296040"/>
          </a:xfrm>
          <a:prstGeom prst="roundRect">
            <a:avLst>
              <a:gd name="adj" fmla="val 10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565200" y="3267000"/>
            <a:ext cx="8148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733320" y="142920"/>
            <a:ext cx="779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ВЫПОЛНЕНИЕ ИНВЕСТИЦИОННЫХ ПРОГРА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МУП ГОРОДА КОСТРОМЫ «КОСТРОМАГОРВОДОКАНАЛ»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В 2016-2018 ГОДАХ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7358040" y="785880"/>
            <a:ext cx="12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лн.р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8876520" y="6581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571680" y="5742000"/>
            <a:ext cx="80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Невыполнение инвестиционной программы в полном объёме связано с проведением капитального ремонта сетей и колодцев вместо запланирован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еконструкции се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00040" y="1071720"/>
          <a:ext cx="8001000" cy="1996920"/>
        </p:xfrm>
        <a:graphic>
          <a:graphicData uri="http://schemas.openxmlformats.org/drawingml/2006/table">
            <a:tbl>
              <a:tblPr/>
              <a:tblGrid>
                <a:gridCol w="317520"/>
                <a:gridCol w="1825560"/>
                <a:gridCol w="492120"/>
                <a:gridCol w="507960"/>
                <a:gridCol w="507960"/>
                <a:gridCol w="508320"/>
                <a:gridCol w="507960"/>
                <a:gridCol w="507960"/>
                <a:gridCol w="507960"/>
                <a:gridCol w="531720"/>
                <a:gridCol w="928800"/>
                <a:gridCol w="857160"/>
              </a:tblGrid>
              <a:tr h="1828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рганизаци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 год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0f5fa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того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ие, 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ан на 2019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ан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9360">
                      <a:solidFill>
                        <a:srgbClr val="f0f5fa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акт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0f5fa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ак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ан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ак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ан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ак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УП г.Костромы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« Костромагорводоканал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52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9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2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1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9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63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53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амортизац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7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7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4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7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 плата за подключен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4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4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6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5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27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7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 проч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4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прибыль, направленная на инвести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0f5fa"/>
                      </a:solidFill>
                    </a:lnL>
                    <a:lnR w="9360">
                      <a:solidFill>
                        <a:srgbClr val="f0f5fa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sp>
        <p:nvSpPr>
          <p:cNvPr id="126" name="Text Box 10"/>
          <p:cNvSpPr/>
          <p:nvPr/>
        </p:nvSpPr>
        <p:spPr>
          <a:xfrm>
            <a:off x="571680" y="3071880"/>
            <a:ext cx="79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намика выполнения инвестиционных программы МУП г. Костромы «Костромагорводоканал» за 2016-2018 год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7" descr=""/>
          <p:cNvPicPr/>
          <p:nvPr/>
        </p:nvPicPr>
        <p:blipFill>
          <a:blip r:embed="rId2"/>
          <a:stretch/>
        </p:blipFill>
        <p:spPr>
          <a:xfrm>
            <a:off x="3643200" y="5214960"/>
            <a:ext cx="285840" cy="361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"/>
          <p:cNvPicPr/>
          <p:nvPr/>
        </p:nvPicPr>
        <p:blipFill>
          <a:blip r:embed="rId3"/>
          <a:stretch/>
        </p:blipFill>
        <p:spPr>
          <a:xfrm>
            <a:off x="6357960" y="5214960"/>
            <a:ext cx="285840" cy="361800"/>
          </a:xfrm>
          <a:prstGeom prst="rect">
            <a:avLst/>
          </a:prstGeom>
          <a:ln w="0">
            <a:noFill/>
          </a:ln>
        </p:spPr>
      </p:pic>
      <p:pic>
        <p:nvPicPr>
          <p:cNvPr id="129" name="Диаграмма 25" descr=""/>
          <p:cNvPicPr/>
          <p:nvPr/>
        </p:nvPicPr>
        <p:blipFill>
          <a:blip r:embed="rId4"/>
          <a:stretch/>
        </p:blipFill>
        <p:spPr>
          <a:xfrm>
            <a:off x="0" y="0"/>
            <a:ext cx="8862840" cy="51516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0"/>
          <p:cNvSpPr/>
          <p:nvPr/>
        </p:nvSpPr>
        <p:spPr>
          <a:xfrm>
            <a:off x="2071800" y="51436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Плата за подключе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32"/>
          <p:cNvSpPr/>
          <p:nvPr/>
        </p:nvSpPr>
        <p:spPr>
          <a:xfrm>
            <a:off x="3143160" y="5143680"/>
            <a:ext cx="7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Проч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33"/>
          <p:cNvSpPr/>
          <p:nvPr/>
        </p:nvSpPr>
        <p:spPr>
          <a:xfrm>
            <a:off x="1785960" y="5500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881a1a"/>
                </a:solidFill>
                <a:latin typeface="Times New Roman"/>
                <a:ea typeface="Times New Roman"/>
              </a:rPr>
              <a:t>2016 г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34"/>
          <p:cNvSpPr/>
          <p:nvPr/>
        </p:nvSpPr>
        <p:spPr>
          <a:xfrm>
            <a:off x="3857760" y="5143680"/>
            <a:ext cx="107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Амортизаци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35"/>
          <p:cNvSpPr/>
          <p:nvPr/>
        </p:nvSpPr>
        <p:spPr>
          <a:xfrm>
            <a:off x="4643280" y="51436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Плата за подключе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36"/>
          <p:cNvSpPr/>
          <p:nvPr/>
        </p:nvSpPr>
        <p:spPr>
          <a:xfrm>
            <a:off x="5643720" y="5143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Проч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37"/>
          <p:cNvSpPr/>
          <p:nvPr/>
        </p:nvSpPr>
        <p:spPr>
          <a:xfrm>
            <a:off x="1143000" y="5143680"/>
            <a:ext cx="107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Амортизаци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38"/>
          <p:cNvSpPr/>
          <p:nvPr/>
        </p:nvSpPr>
        <p:spPr>
          <a:xfrm>
            <a:off x="6500880" y="5143680"/>
            <a:ext cx="107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Амортизаци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39"/>
          <p:cNvSpPr/>
          <p:nvPr/>
        </p:nvSpPr>
        <p:spPr>
          <a:xfrm>
            <a:off x="7358040" y="51436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Плата за подключе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40"/>
          <p:cNvSpPr/>
          <p:nvPr/>
        </p:nvSpPr>
        <p:spPr>
          <a:xfrm>
            <a:off x="4714920" y="550080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881a1a"/>
                </a:solidFill>
                <a:latin typeface="Times New Roman"/>
                <a:ea typeface="Times New Roman"/>
              </a:rPr>
              <a:t>2017 г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41"/>
          <p:cNvSpPr/>
          <p:nvPr/>
        </p:nvSpPr>
        <p:spPr>
          <a:xfrm>
            <a:off x="7072200" y="550080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881a1a"/>
                </a:solidFill>
                <a:latin typeface="Times New Roman"/>
                <a:ea typeface="Times New Roman"/>
              </a:rPr>
              <a:t>2018 г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3071880" cy="6858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92160" y="66600"/>
            <a:ext cx="772920" cy="70164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4"/>
          <p:cNvSpPr/>
          <p:nvPr/>
        </p:nvSpPr>
        <p:spPr>
          <a:xfrm>
            <a:off x="428760" y="428760"/>
            <a:ext cx="8429400" cy="6000480"/>
          </a:xfrm>
          <a:prstGeom prst="roundRect">
            <a:avLst>
              <a:gd name="adj" fmla="val 10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42960" y="428760"/>
            <a:ext cx="7829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5160" algn="ctr">
              <a:lnSpc>
                <a:spcPct val="15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ПРОТОКОЛЬНЫХ ПОРУЧ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465120" y="3425760"/>
            <a:ext cx="82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517680" y="928800"/>
            <a:ext cx="8340480" cy="65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Департаменту государственного регулирования цен и тарифов Костромской области в течение 2019 год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1) ежеквартально проводить мониторинг выполнения инвестиционных программ ресурсоснабжающими организаци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2) при принятии тарифных решений на 2020 год проанализировать выполнение инвестиционных программ регулируемых организаций и в случае неиспользования финансовых ресурсов обеспечить их исключение из валовой выруч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2. Рекомендовать регулируемым организациям, реализующим инвестиционные программы, обеспечить освоение инвестиционных ресурсов, включенных в тарифные  решения, в полном объ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8881200" y="6581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3071880" cy="6858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92160" y="66600"/>
            <a:ext cx="772920" cy="7016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4"/>
          <p:cNvSpPr/>
          <p:nvPr/>
        </p:nvSpPr>
        <p:spPr>
          <a:xfrm>
            <a:off x="593640" y="749160"/>
            <a:ext cx="8191440" cy="5727960"/>
          </a:xfrm>
          <a:prstGeom prst="roundRect">
            <a:avLst>
              <a:gd name="adj" fmla="val 10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035000" y="285840"/>
            <a:ext cx="2927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572000" y="0"/>
            <a:ext cx="4172040" cy="606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65200" y="3267000"/>
            <a:ext cx="81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516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4:44:06Z</dcterms:created>
  <dc:creator>Лёвкина</dc:creator>
  <dc:description/>
  <dc:language>en-US</dc:language>
  <cp:lastModifiedBy>Хворостинская</cp:lastModifiedBy>
  <cp:lastPrinted>2018-03-02T08:52:42Z</cp:lastPrinted>
  <dcterms:modified xsi:type="dcterms:W3CDTF">2019-05-29T11:39:56Z</dcterms:modified>
  <cp:revision>2103</cp:revision>
  <dc:subject/>
  <dc:title>Слайд 1</dc:title>
</cp:coreProperties>
</file>